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735F-AACE-4D14-A6CF-77819D90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3DC-A7A0-40BA-B9AE-C60B5C25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476-6373-4730-85BB-3FE1796E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D9A-4079-44E2-9789-9A6E137C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FF3-650B-47B5-A907-F1A2F702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860C-AFDD-457D-8293-FFB0D2D3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F50F-751C-433F-ABC0-CBA6E5DA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5CF-1B0F-47E6-87AA-39EA56AF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863-E2DD-4139-9970-7A50E1DF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1ED-4499-4CB0-9086-D32BD55D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6601-1D1E-4E7A-89FC-99C9DBCF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50E-DC16-4D54-BD58-272A7F40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0DEE-4258-4624-9692-23F479074BBC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am, szent vagy, szent vagy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 vagy az egyetlen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am, szent vagy, szent vagy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éd dicséretem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Örökké Téged imádlak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erelmed ad erő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özel Hozzád a trónod előt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ékét lel szívem, Uram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532720" y="260280"/>
            <a:ext cx="409680" cy="432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16:03:51Z</dcterms:created>
  <dc:creator>Baptista Gyülekezet</dc:creator>
  <dc:description/>
  <dc:language>en-US</dc:language>
  <cp:lastModifiedBy>Baptista Gyülekezet</cp:lastModifiedBy>
  <dcterms:modified xsi:type="dcterms:W3CDTF">2006-03-04T16:03:55Z</dcterms:modified>
  <cp:revision>1</cp:revision>
  <dc:subject/>
  <dc:title>Uram, szent vagy, szent vagy, Te vagy az egyetlen,  Uram, szent vagy, szent vagy, Tiéd dicséretem!</dc:title>
</cp:coreProperties>
</file>